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17A-3FC5-491A-9214-D5EB232D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B39-66B4-4F8D-887A-24D75BCD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AAA92-CEE5-4368-8ED5-4CABDF99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34235-02D0-4940-9C73-EDCB8A9E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44C75-11A5-4227-A40B-B58A649B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85D79-2455-4E83-9771-CDBE2E2B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DF9EF-5CF4-4E6B-8035-74F507AF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EC8C1-D4B9-4C0C-9BB0-D4F7357B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D29F7-D907-42C8-9009-34481841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2BAC2-98F4-40DE-ABBD-1B2FFB9C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7C765-C96C-47BF-A897-A0A8C000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6A9-8939-4A90-BFC5-304A6931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FCC-03F7-4894-ACFF-0B0974FF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B3DD-8509-46B4-B442-A8C23892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88B-E12C-4459-8D86-DBE6A694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602E-377E-4A8A-A471-DA254AE4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500-FF2F-46BE-A007-C5CF2B77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D99B-B633-473F-964B-CD8BD9EF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7215-693B-4B0C-A636-E83EF64D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630E-6CC2-4BED-8DBE-ECEA2C53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562-01CA-4C88-9BC2-6C02D4E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F5C1-6DF1-4DED-8472-D4D2BE8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0EDD-F2D3-4BAB-8144-2AFC3A27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6916-742F-4BA3-ABCF-6E9A0626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8B97-EF3D-4384-BFEB-91B7141A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4FB9-807E-4171-A70A-D5C5496F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D19B-3794-4F16-BD6F-9E31888B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9377-261E-4B86-859C-3A75BE95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2F48-64D2-42C5-B069-BCE5205C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1F68-ED7C-45BB-9D9B-45022790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D0F3-C13C-47E8-82B5-2788E3EB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DA9-0000-448B-AAEF-CE84E1F8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96D6-26D7-4B63-8612-B3EC27AB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201F-581D-4B28-8F09-FA8FEBF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6FDF-16B9-4070-AAD7-CB2D4C6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6486-F2F6-4D79-8B79-49F8FC09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4BEA-0589-440C-9A39-FF52E227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26C4-8673-4C3A-8B42-24E499CD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B1C7-1F31-4F83-9C56-64403F63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6F9E-69AD-4461-A93F-B01179A2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0DB5-7238-4F1D-A634-A6728723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8BCE-DA98-4901-93C4-E8FE55EE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57B-7AE1-4363-A1A5-62596FC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1964-D01D-4D8F-813F-4DF9AFCF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8338-6DCA-4C9F-9CF1-57CD3047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1EA8-2CE0-427C-9B55-0B7D51A3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2F243-EE60-45D2-BE30-E87F9578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35F3-88A8-44E2-83C0-6B0EDCFE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6BA92-C01A-4A79-9D8B-041C641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58F79-43FF-42FE-9E2A-3784138E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4E434-D3C2-431A-AC11-F5E8341D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3AFA-FFA6-48DD-A01C-74BC9CD1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83EBA-5162-4D27-9ACD-D899FF7B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8F2-EAC9-465C-875D-C6D09CFC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B643-96E1-4468-89EF-5E11D8E8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2355-8899-4B3A-BAC4-21FB6DFC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55AEA-BD43-4FEF-911C-CDA26BB4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EAF8A-B846-4500-B8C4-458624BE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EA73-19D2-4745-B635-53211333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B3CF-9012-4756-A832-5119A5F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2FB24-8084-4E53-9781-BCF51A4E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C92C3-FE58-4735-B8CB-ED5AE7F4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01CD8-651A-4802-9C88-F8688C05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E68D-3C6D-4238-A0D3-4D597BA9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0C8-E52A-48A5-BBE9-9AEDFF0E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CAF72-4339-4439-8142-6171CB0F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A8DC4-13DA-4FBC-BE8A-A91B195E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5C6B-82E6-4EBD-8AA7-BD2E4F79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5E363-F882-4A5A-9047-2E7414D7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A50D5-AAB0-47C8-8AE3-C2A42842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EF457-168E-4D83-8B1F-7F5E3882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E87E5-EC0E-40D3-9BC2-08C8C36C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A3694-F46E-4655-B954-213FCE5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0B194-74CE-40A6-8437-60E18E8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03684-5433-4AE9-941E-8AEF9DA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7CF-F642-4899-9DA0-0FEC63D1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7B92-5FB6-4C89-8F52-F0297169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0A118-63A8-44D8-883A-510F3573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96138-D745-45C8-9F23-636EFCBF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FDA8F-5F30-466F-9AC6-2CC564FC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6F13C-C494-47E2-8E3D-AE7B777D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150C7-66C5-479B-86EE-488D1AD5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8B86B-CCF4-4706-B28B-8ABED054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82CDC-EDCE-4EBA-8B1D-859CCD36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13046-F8DD-4245-B869-6DD9BD94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DBDFE-A1BC-4EB7-907A-0460BEB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B34-4E3E-4238-AA0A-81A6811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A630-BF4B-4922-85CC-28E9FC64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E1971-C94A-418A-ABA3-D3BD9ADA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BE424-FADB-4A55-A25F-5F259F90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9551F-85B6-4300-8A24-3BBBDC67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7A1F6-19F7-4F07-9C35-81D12951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2AF47-5CA0-447F-AC68-5D942395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7344D-5F77-4D3C-B221-25DC1FA6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11A4D-62C0-41E7-8FFA-874E57C5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797A1-8E2D-41E3-9002-D40E3CB6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9D79D-786D-4C6E-8EBC-CC43B812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BB3-4F5E-40E4-B87D-17BF53D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22A83-0852-4628-8E45-17C00F09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60F5-E806-46B4-A1B6-45B88916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ED45-3889-4FDA-9F0F-7A0B20CB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F2D20-6F8D-40AD-A718-6C72A64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41E1-3161-4586-A0D9-36329E1B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096A-B547-4F8E-8310-5463DE02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DB169-847A-4411-B2E1-684B15A4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706E3-291F-4D3E-93FE-3CB02FE7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7E9A4-DEE0-4DEF-859B-7B1B4550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DF4DB-5FEB-4088-8C1F-E7F9BF88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200010-2DF1-48FA-87BB-731BFC07576E}" type="slidenum"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44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45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5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48" name="AutoShape 6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AutoShape 7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060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7E227-E879-4090-A5DD-D6941DF445F6}" type="slidenum">
              <a:rPr b="1" lang="pt-BR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94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4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97" name="AutoShape 5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25409-1320-4CA7-8EB2-FFCBDBCB1F1F}" type="slidenum">
              <a:rPr b="1" lang="pt-BR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40" name="Rectangle 2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Group 3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5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E4776-0528-4FCB-9665-A20A6BAA8DE4}" type="slidenum">
              <a: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2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189" name="Rectangle 2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3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191" name="Rectangle 4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5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7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195" name="Rectangle 8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9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4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5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98BA5-B83E-446F-B347-005BF8325A54}" type="slidenum">
              <a: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238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AutoShape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8" h="1000">
                  <a:moveTo>
                    <a:pt x="0" y="0"/>
                  </a:moveTo>
                  <a:lnTo>
                    <a:pt x="6508" y="0"/>
                  </a:lnTo>
                  <a:cubicBezTo>
                    <a:pt x="6784" y="0"/>
                    <a:pt x="7008" y="223"/>
                    <a:pt x="7008" y="500"/>
                  </a:cubicBezTo>
                  <a:cubicBezTo>
                    <a:pt x="7008" y="776"/>
                    <a:pt x="6784" y="999"/>
                    <a:pt x="6508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2B95C-4036-4F7F-A64F-5AF0661A1BCA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285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496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20" h="1000">
                  <a:moveTo>
                    <a:pt x="0" y="0"/>
                  </a:moveTo>
                  <a:lnTo>
                    <a:pt x="4420" y="0"/>
                  </a:lnTo>
                  <a:cubicBezTo>
                    <a:pt x="4696" y="0"/>
                    <a:pt x="4920" y="223"/>
                    <a:pt x="4920" y="500"/>
                  </a:cubicBezTo>
                  <a:cubicBezTo>
                    <a:pt x="4920" y="776"/>
                    <a:pt x="4696" y="999"/>
                    <a:pt x="442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1426680"/>
            <a:ext cx="80755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31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0"/>
          </p:nvPr>
        </p:nvSpPr>
        <p:spPr>
          <a:xfrm>
            <a:off x="3123720" y="625284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A3724-C24E-4E29-9C52-CC9EC43446EE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"/>
          <p:cNvGrpSpPr/>
          <p:nvPr/>
        </p:nvGrpSpPr>
        <p:grpSpPr>
          <a:xfrm>
            <a:off x="0" y="0"/>
            <a:ext cx="2665440" cy="6856560"/>
            <a:chOff x="0" y="0"/>
            <a:chExt cx="2665440" cy="6856560"/>
          </a:xfrm>
        </p:grpSpPr>
        <p:sp>
          <p:nvSpPr>
            <p:cNvPr id="330" name="Rectangle 2"/>
            <p:cNvSpPr/>
            <p:nvPr/>
          </p:nvSpPr>
          <p:spPr>
            <a:xfrm>
              <a:off x="198108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7373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840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151920" y="6248160"/>
            <a:ext cx="1900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55810-D8F1-4768-8D8C-CB93DA0A27B2}" type="slidenum">
              <a: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"/>
          <p:cNvPicPr/>
          <p:nvPr/>
        </p:nvPicPr>
        <p:blipFill>
          <a:blip r:embed="rId3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dt" idx="25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80410-860F-4B3B-A37A-B0CDA23BFB16}" type="slidenum">
              <a: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186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2"/>
          <p:cNvSpPr/>
          <p:nvPr/>
        </p:nvSpPr>
        <p:spPr>
          <a:xfrm>
            <a:off x="2743200" y="4572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no Pro"/>
              </a:rPr>
              <a:t>Desde 199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ciência de Sangu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sto macilento /amarelo desbotado, lábios esbranquiçados, vertigens e ofuscações da vista, palpitações, insônia, formigamentos nas mãos e nos pé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s mulheres oligomenorréia e até amenorré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pál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fino e fra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Deficiência de Jiny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ábios queimados, garganta seca, sede, pouca saliva, pele seca e desidratada, oligúria, fezes em cíbal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fino e rápi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se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ciência de Y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in Ye Deficiente + calor nos 5 corações, hipertermia, transpiração notur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escar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ráp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ciência de Ya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i Deficiente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or de frio aliviado pelo calor, membros frios, boca pálida e úmida, não tem sede, rosto pálido, urinas claras ou oligúria com edema, fezes past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pálida (e úm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fraco (e len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Estagnação de Q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 esporádica, fraca, migratória; sem alterações de forma; aumento de volume variá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gnação de Sangu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r fixa e forte; aumento de volume fixo e constante; arroxeamento; sangue escu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os Clínic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sgotamento, tonturas, ofuscações de vista, falta de ar aos esforços, transpiração espontânea; língua pálida; pulso fra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se houver dor fixa não aliviada pela pressão e a língua apresentar pontos arroxead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os Clínic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) Palidez facial, lábios esbranquiçados, vertigens, ofuscações da vista, palpitações, formigamentos nas extremidades, oligomenorréi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................ ..............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............. ....... 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os Clínic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5) Irritabilidade, mal humorado, dolorimento e pressão no peito e flancos, anorexia, náuseas e vômitos, desconforto abdominal, flatulência, fezes pastos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norm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em cor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reeform 1"/>
          <p:cNvSpPr/>
          <p:nvPr/>
        </p:nvSpPr>
        <p:spPr>
          <a:xfrm>
            <a:off x="407880" y="2403360"/>
            <a:ext cx="8186760" cy="147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urso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Bases da Medicina Tradicional Chines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é um curso teórico 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inteiramente gratuit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assistir e baixar o material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você deseje receber u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ertificad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após completar esse curso é precis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gar uma tax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inclui um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avaliaçã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(prova de multipla escolha e talvez outras atividades) e 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emissão de certificad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só é feita caso você consiga aproveitamento acima de 70% na avaliação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não alcance esse aproveitamento é enviada mais uma prova e observações para estudo de reforço.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informação sobre atualizada sobre o custo da Certificação (certificado de CURSO LIVRE com 25 horas) visit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www.acupunturabrasil.org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ou entre em contato direto com o professor Ephraim F. Medeiros via telegra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@Ephraimmedeir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índromes Energé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e final do Diagnóst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 para a Orientação Terapêut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 para determinar a estratégia de tratamento e selecionar os pontos,fármaco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dromes Energé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Base para o Estudo de Síndrom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ormação das Substâncias Fundament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Zang-F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udo das causas das doenç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hecer as características das Energias Perver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hecer o papel patogênico das emoções desregrad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âncias Fundament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68360" y="1600200"/>
          <a:ext cx="8219880" cy="4782960"/>
        </p:xfrm>
        <a:graphic>
          <a:graphicData uri="http://schemas.openxmlformats.org/drawingml/2006/table">
            <a:tbl>
              <a:tblPr/>
              <a:tblGrid>
                <a:gridCol w="2054160"/>
                <a:gridCol w="2057400"/>
                <a:gridCol w="2054160"/>
                <a:gridCol w="2054160"/>
              </a:tblGrid>
              <a:tr h="947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â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g Fu Associa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çõ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 R, 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,aquecer,transformar,proteger,reter e nutr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 Luo e Xue Ma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F,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r e umedec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e Mai e Jing Lu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 Y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P,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edecer e Nutri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Corp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var transformações, controlar crescimento, desenvolvimento e reprodu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os Maravilhosos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 Luo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azenada no Ming M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lizar corpo e Me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 no X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s Aspectos Yin e Yang do Qi, Jing Ye e 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457200" y="1600200"/>
          <a:ext cx="8231040" cy="467820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1130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â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 Ya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 Y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ecer e proteger: PELE, MÚSCULOS E SUPERFÍCIE DO CORP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ng(Ying)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r: ZANG-FU E TECID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 Y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edecer, aquecer e nutrir: PELE E MÚSCUL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edecer e nutrir : ZANG-FU, ARTICULAÇÕES,OSSOS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REBRO E ORIFÍCI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o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ecimento e energiz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vação das transformações, crescimento,desenvolvimento, reprodu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gua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idização e Nutrição: Bases Materiais  para formação de Medula, Cérebro e Xu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bstâncias Fundament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Energias Renováveis : Ar 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 Energia Inata e não renovável: 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á produção, distribuição, circulação e o consumo exagerado ou desregrado dessas energias acarretam no surgimento de desequilíbrios que se manifestam em padr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drões Ger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ndendo os padrões gerais temos a base para entender TODOS os padrões específicos simples e combi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Deficiência de Q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omas agravados pelo esforço: vertigens, ofuscações da vista, respiração curta embaraçando a conversa, esgotamento, transpiração espontân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íngua pál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so fra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1:41:53Z</dcterms:created>
  <dc:creator>Pessoal</dc:creator>
  <dc:description/>
  <dc:language>en-US</dc:language>
  <cp:lastModifiedBy>微软用户</cp:lastModifiedBy>
  <dcterms:modified xsi:type="dcterms:W3CDTF">2020-10-04T15:30:17Z</dcterms:modified>
  <cp:revision>25</cp:revision>
  <dc:subject/>
  <dc:title>CEATA</dc:title>
</cp:coreProperties>
</file>